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CF7-F429-48B9-AB54-5E52A0A7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C79-6561-41E4-A8FE-7B65C04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B13-7ED8-46D2-93F0-4325C43D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A8F-D613-44B4-9CDA-2EC75B98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089-7297-412C-9EEF-A004A13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736-6EC9-4282-8CFE-E37AD585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0F5-6957-4547-9E78-5E74A652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4C6-6168-454C-A825-9C551D5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39E-0CC6-410E-8EB0-E185FC8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A3C-C292-4B02-9DAC-C5FDF56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24A-7B59-4FCB-BF12-1AD01C4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112-3124-40B5-9A36-12B37F5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336-D28F-41C9-84F5-6EFCBDE1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5040" y="1531800"/>
            <a:ext cx="2166840" cy="3497400"/>
          </a:xfrm>
          <a:custGeom>
            <a:avLst/>
            <a:gdLst/>
            <a:ahLst/>
            <a:rect l="l" t="t" r="r" b="b"/>
            <a:pathLst>
              <a:path w="3263" h="10053">
                <a:moveTo>
                  <a:pt x="732" y="9165"/>
                </a:moveTo>
                <a:lnTo>
                  <a:pt x="778" y="10053"/>
                </a:lnTo>
                <a:lnTo>
                  <a:pt x="1588" y="10053"/>
                </a:lnTo>
                <a:lnTo>
                  <a:pt x="1588" y="9978"/>
                </a:lnTo>
                <a:lnTo>
                  <a:pt x="1469" y="9727"/>
                </a:lnTo>
                <a:lnTo>
                  <a:pt x="1547" y="8529"/>
                </a:lnTo>
                <a:lnTo>
                  <a:pt x="1654" y="8700"/>
                </a:lnTo>
                <a:lnTo>
                  <a:pt x="1588" y="10053"/>
                </a:lnTo>
                <a:lnTo>
                  <a:pt x="2415" y="10053"/>
                </a:lnTo>
                <a:lnTo>
                  <a:pt x="2432" y="9685"/>
                </a:lnTo>
                <a:lnTo>
                  <a:pt x="2349" y="9572"/>
                </a:lnTo>
                <a:lnTo>
                  <a:pt x="2366" y="7121"/>
                </a:lnTo>
                <a:lnTo>
                  <a:pt x="2181" y="6560"/>
                </a:lnTo>
                <a:lnTo>
                  <a:pt x="2366" y="6560"/>
                </a:lnTo>
                <a:lnTo>
                  <a:pt x="2316" y="5249"/>
                </a:lnTo>
                <a:lnTo>
                  <a:pt x="2493" y="5362"/>
                </a:lnTo>
                <a:lnTo>
                  <a:pt x="2576" y="5324"/>
                </a:lnTo>
                <a:lnTo>
                  <a:pt x="2576" y="5153"/>
                </a:lnTo>
                <a:lnTo>
                  <a:pt x="2629" y="4843"/>
                </a:lnTo>
                <a:lnTo>
                  <a:pt x="2637" y="4667"/>
                </a:lnTo>
                <a:lnTo>
                  <a:pt x="2629" y="4495"/>
                </a:lnTo>
                <a:lnTo>
                  <a:pt x="2366" y="2623"/>
                </a:lnTo>
                <a:lnTo>
                  <a:pt x="2440" y="2392"/>
                </a:lnTo>
                <a:lnTo>
                  <a:pt x="2415" y="2124"/>
                </a:lnTo>
                <a:lnTo>
                  <a:pt x="2646" y="1697"/>
                </a:lnTo>
                <a:lnTo>
                  <a:pt x="2695" y="1504"/>
                </a:lnTo>
                <a:lnTo>
                  <a:pt x="2703" y="1253"/>
                </a:lnTo>
                <a:lnTo>
                  <a:pt x="3263" y="306"/>
                </a:lnTo>
                <a:lnTo>
                  <a:pt x="3193" y="55"/>
                </a:lnTo>
                <a:lnTo>
                  <a:pt x="3024" y="348"/>
                </a:lnTo>
                <a:lnTo>
                  <a:pt x="3057" y="403"/>
                </a:lnTo>
                <a:lnTo>
                  <a:pt x="2687" y="1098"/>
                </a:lnTo>
                <a:lnTo>
                  <a:pt x="2662" y="1043"/>
                </a:lnTo>
                <a:lnTo>
                  <a:pt x="2238" y="1697"/>
                </a:lnTo>
                <a:lnTo>
                  <a:pt x="2214" y="1659"/>
                </a:lnTo>
                <a:lnTo>
                  <a:pt x="2172" y="1680"/>
                </a:lnTo>
                <a:lnTo>
                  <a:pt x="1942" y="2065"/>
                </a:lnTo>
                <a:lnTo>
                  <a:pt x="1942" y="2179"/>
                </a:lnTo>
                <a:lnTo>
                  <a:pt x="1806" y="2392"/>
                </a:lnTo>
                <a:lnTo>
                  <a:pt x="1707" y="2220"/>
                </a:lnTo>
                <a:lnTo>
                  <a:pt x="1757" y="2124"/>
                </a:lnTo>
                <a:lnTo>
                  <a:pt x="1884" y="1580"/>
                </a:lnTo>
                <a:lnTo>
                  <a:pt x="1843" y="1563"/>
                </a:lnTo>
                <a:lnTo>
                  <a:pt x="1732" y="1969"/>
                </a:lnTo>
                <a:lnTo>
                  <a:pt x="1732" y="1525"/>
                </a:lnTo>
                <a:lnTo>
                  <a:pt x="1843" y="1563"/>
                </a:lnTo>
                <a:lnTo>
                  <a:pt x="1884" y="1580"/>
                </a:lnTo>
                <a:lnTo>
                  <a:pt x="1950" y="1525"/>
                </a:lnTo>
                <a:lnTo>
                  <a:pt x="1926" y="1253"/>
                </a:lnTo>
                <a:lnTo>
                  <a:pt x="1909" y="867"/>
                </a:lnTo>
                <a:lnTo>
                  <a:pt x="1901" y="712"/>
                </a:lnTo>
                <a:lnTo>
                  <a:pt x="1868" y="558"/>
                </a:lnTo>
                <a:lnTo>
                  <a:pt x="1835" y="423"/>
                </a:lnTo>
                <a:lnTo>
                  <a:pt x="1790" y="306"/>
                </a:lnTo>
                <a:lnTo>
                  <a:pt x="1740" y="193"/>
                </a:lnTo>
                <a:lnTo>
                  <a:pt x="1683" y="114"/>
                </a:lnTo>
                <a:lnTo>
                  <a:pt x="1613" y="55"/>
                </a:lnTo>
                <a:lnTo>
                  <a:pt x="1547" y="0"/>
                </a:lnTo>
                <a:lnTo>
                  <a:pt x="1477" y="0"/>
                </a:lnTo>
                <a:lnTo>
                  <a:pt x="1411" y="0"/>
                </a:lnTo>
                <a:lnTo>
                  <a:pt x="1341" y="38"/>
                </a:lnTo>
                <a:lnTo>
                  <a:pt x="1284" y="97"/>
                </a:lnTo>
                <a:lnTo>
                  <a:pt x="1218" y="193"/>
                </a:lnTo>
                <a:lnTo>
                  <a:pt x="1164" y="289"/>
                </a:lnTo>
                <a:lnTo>
                  <a:pt x="1123" y="403"/>
                </a:lnTo>
                <a:lnTo>
                  <a:pt x="1090" y="541"/>
                </a:lnTo>
                <a:lnTo>
                  <a:pt x="1057" y="696"/>
                </a:lnTo>
                <a:lnTo>
                  <a:pt x="1037" y="888"/>
                </a:lnTo>
                <a:lnTo>
                  <a:pt x="1012" y="1081"/>
                </a:lnTo>
                <a:lnTo>
                  <a:pt x="938" y="1370"/>
                </a:lnTo>
                <a:lnTo>
                  <a:pt x="946" y="1483"/>
                </a:lnTo>
                <a:lnTo>
                  <a:pt x="963" y="1542"/>
                </a:lnTo>
                <a:lnTo>
                  <a:pt x="1029" y="1542"/>
                </a:lnTo>
                <a:lnTo>
                  <a:pt x="1148" y="1504"/>
                </a:lnTo>
                <a:lnTo>
                  <a:pt x="1173" y="1890"/>
                </a:lnTo>
                <a:lnTo>
                  <a:pt x="1020" y="1542"/>
                </a:lnTo>
                <a:lnTo>
                  <a:pt x="963" y="1542"/>
                </a:lnTo>
                <a:lnTo>
                  <a:pt x="1197" y="2045"/>
                </a:lnTo>
                <a:lnTo>
                  <a:pt x="1173" y="2179"/>
                </a:lnTo>
                <a:lnTo>
                  <a:pt x="514" y="2874"/>
                </a:lnTo>
                <a:lnTo>
                  <a:pt x="465" y="2912"/>
                </a:lnTo>
                <a:lnTo>
                  <a:pt x="403" y="3029"/>
                </a:lnTo>
                <a:lnTo>
                  <a:pt x="305" y="3762"/>
                </a:lnTo>
                <a:lnTo>
                  <a:pt x="8" y="4939"/>
                </a:lnTo>
                <a:lnTo>
                  <a:pt x="0" y="5056"/>
                </a:lnTo>
                <a:lnTo>
                  <a:pt x="17" y="5228"/>
                </a:lnTo>
                <a:lnTo>
                  <a:pt x="49" y="5345"/>
                </a:lnTo>
                <a:lnTo>
                  <a:pt x="107" y="5442"/>
                </a:lnTo>
                <a:lnTo>
                  <a:pt x="428" y="5442"/>
                </a:lnTo>
                <a:lnTo>
                  <a:pt x="210" y="5789"/>
                </a:lnTo>
                <a:lnTo>
                  <a:pt x="210" y="5923"/>
                </a:lnTo>
                <a:lnTo>
                  <a:pt x="226" y="6041"/>
                </a:lnTo>
                <a:lnTo>
                  <a:pt x="267" y="6099"/>
                </a:lnTo>
                <a:lnTo>
                  <a:pt x="547" y="6099"/>
                </a:lnTo>
                <a:lnTo>
                  <a:pt x="745" y="5538"/>
                </a:lnTo>
                <a:lnTo>
                  <a:pt x="761" y="6656"/>
                </a:lnTo>
                <a:lnTo>
                  <a:pt x="979" y="6732"/>
                </a:lnTo>
                <a:lnTo>
                  <a:pt x="819" y="7138"/>
                </a:lnTo>
                <a:lnTo>
                  <a:pt x="819" y="7544"/>
                </a:lnTo>
                <a:lnTo>
                  <a:pt x="588" y="7833"/>
                </a:lnTo>
                <a:lnTo>
                  <a:pt x="547" y="7892"/>
                </a:lnTo>
                <a:lnTo>
                  <a:pt x="514" y="7988"/>
                </a:lnTo>
                <a:lnTo>
                  <a:pt x="490" y="8064"/>
                </a:lnTo>
                <a:lnTo>
                  <a:pt x="465" y="8160"/>
                </a:lnTo>
                <a:lnTo>
                  <a:pt x="449" y="8315"/>
                </a:lnTo>
                <a:lnTo>
                  <a:pt x="449" y="8432"/>
                </a:lnTo>
                <a:lnTo>
                  <a:pt x="449" y="8529"/>
                </a:lnTo>
                <a:lnTo>
                  <a:pt x="457" y="8663"/>
                </a:lnTo>
                <a:lnTo>
                  <a:pt x="473" y="8780"/>
                </a:lnTo>
                <a:lnTo>
                  <a:pt x="490" y="8839"/>
                </a:lnTo>
                <a:lnTo>
                  <a:pt x="523" y="8935"/>
                </a:lnTo>
                <a:lnTo>
                  <a:pt x="555" y="8989"/>
                </a:lnTo>
                <a:lnTo>
                  <a:pt x="609" y="9048"/>
                </a:lnTo>
                <a:lnTo>
                  <a:pt x="658" y="9107"/>
                </a:lnTo>
                <a:lnTo>
                  <a:pt x="732" y="9165"/>
                </a:lnTo>
                <a:close/>
              </a:path>
            </a:pathLst>
          </a:custGeom>
          <a:solidFill>
            <a:srgbClr val="008000"/>
          </a:solidFill>
          <a:ln w="2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04920"/>
            <a:ext cx="792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30120" y="228600"/>
            <a:ext cx="1193760" cy="1190520"/>
            <a:chOff x="330120" y="228600"/>
            <a:chExt cx="1193760" cy="1190520"/>
          </a:xfrm>
        </p:grpSpPr>
        <p:grpSp>
          <p:nvGrpSpPr>
            <p:cNvPr id="44" name=""/>
            <p:cNvGrpSpPr/>
            <p:nvPr/>
          </p:nvGrpSpPr>
          <p:grpSpPr>
            <a:xfrm>
              <a:off x="330120" y="228600"/>
              <a:ext cx="1193760" cy="1190520"/>
              <a:chOff x="330120" y="228600"/>
              <a:chExt cx="1193760" cy="1190520"/>
            </a:xfrm>
          </p:grpSpPr>
          <p:sp>
            <p:nvSpPr>
              <p:cNvPr id="45" name=""/>
              <p:cNvSpPr/>
              <p:nvPr/>
            </p:nvSpPr>
            <p:spPr>
              <a:xfrm>
                <a:off x="815760" y="228600"/>
                <a:ext cx="243000" cy="18900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0600" y="295200"/>
                <a:ext cx="194040" cy="12204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3840" y="299160"/>
                <a:ext cx="183600" cy="11808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51040" y="307440"/>
                <a:ext cx="173160" cy="10980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54280" y="311400"/>
                <a:ext cx="162720" cy="10584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61480" y="315000"/>
                <a:ext cx="152280" cy="10224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64720" y="322920"/>
                <a:ext cx="141840" cy="9432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1920" y="326880"/>
                <a:ext cx="131400" cy="9036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5160" y="330840"/>
                <a:ext cx="120960" cy="8640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2360" y="338400"/>
                <a:ext cx="110520" cy="7884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5600" y="34272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88840" y="346680"/>
                <a:ext cx="93600" cy="7056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96040" y="35064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99280" y="358560"/>
                <a:ext cx="72720" cy="5868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06480" y="362160"/>
                <a:ext cx="62280" cy="5508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09720" y="366120"/>
                <a:ext cx="51840" cy="5112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6920" y="3740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20160" y="37836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27360" y="382320"/>
                <a:ext cx="20880" cy="154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30600" y="38988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5760" y="228600"/>
                <a:ext cx="243000" cy="18900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0160" y="307440"/>
                <a:ext cx="228600" cy="10980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24200" y="271800"/>
                <a:ext cx="17280" cy="4716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24200" y="271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9640" y="271800"/>
                <a:ext cx="34560" cy="5904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79200" y="2912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48240" y="228600"/>
                <a:ext cx="30960" cy="9036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2880" y="228600"/>
                <a:ext cx="45000" cy="9036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040" y="24408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1480" y="259920"/>
                <a:ext cx="34560" cy="7488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5760" y="279720"/>
                <a:ext cx="51840" cy="8244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5760" y="362160"/>
                <a:ext cx="14040" cy="5508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7320" y="1340280"/>
                <a:ext cx="153000" cy="7884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88080" y="816120"/>
                <a:ext cx="104040" cy="12960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88080" y="816120"/>
                <a:ext cx="104040" cy="12960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88080" y="812160"/>
                <a:ext cx="104040" cy="13356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8080" y="812160"/>
                <a:ext cx="104040" cy="13356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2520" y="441000"/>
                <a:ext cx="242640" cy="19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2520" y="441000"/>
                <a:ext cx="242640" cy="19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2520" y="4410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2520" y="457200"/>
                <a:ext cx="235800" cy="39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48320" y="449280"/>
                <a:ext cx="6840" cy="118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48320" y="441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41840" y="44100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22960" y="437400"/>
                <a:ext cx="218880" cy="324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0160" y="480600"/>
                <a:ext cx="204480" cy="1944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0160" y="480600"/>
                <a:ext cx="204480" cy="1944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0160" y="480600"/>
                <a:ext cx="204480" cy="2340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0160" y="48060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4280" y="334800"/>
                <a:ext cx="17280" cy="8244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54280" y="334800"/>
                <a:ext cx="17280" cy="8244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8840" y="318960"/>
                <a:ext cx="30960" cy="9828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6920" y="31896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8840" y="346680"/>
                <a:ext cx="27720" cy="7056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58680" y="318960"/>
                <a:ext cx="10080" cy="9432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58680" y="318960"/>
                <a:ext cx="10080" cy="9828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48240" y="315000"/>
                <a:ext cx="16920" cy="9828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48240" y="315000"/>
                <a:ext cx="16920" cy="8280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48240" y="39384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86040" y="326880"/>
                <a:ext cx="17280" cy="7884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86040" y="326880"/>
                <a:ext cx="17280" cy="7884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06920" y="318960"/>
                <a:ext cx="20520" cy="9432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06920" y="318960"/>
                <a:ext cx="20520" cy="9432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31400" y="342720"/>
                <a:ext cx="10440" cy="7056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31400" y="342720"/>
                <a:ext cx="10440" cy="7056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80880" y="103284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2680" y="103680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680" y="103680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9080" y="1036800"/>
                <a:ext cx="117720" cy="13392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0840" y="1036800"/>
                <a:ext cx="75960" cy="12996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0120" y="1190520"/>
                <a:ext cx="156240" cy="7488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30120" y="1190520"/>
                <a:ext cx="156240" cy="7488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0120" y="1186560"/>
                <a:ext cx="156240" cy="7884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0120" y="119448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2400" y="1300680"/>
                <a:ext cx="169920" cy="6300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2400" y="1300680"/>
                <a:ext cx="169920" cy="6300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400" y="1300680"/>
                <a:ext cx="169920" cy="435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2400" y="1324440"/>
                <a:ext cx="169920" cy="39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1280" y="1139400"/>
                <a:ext cx="69120" cy="18900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280" y="1139400"/>
                <a:ext cx="69120" cy="18900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1280" y="1139400"/>
                <a:ext cx="58680" cy="18900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5400" y="1139400"/>
                <a:ext cx="45000" cy="16920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" y="1186560"/>
                <a:ext cx="104040" cy="11412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4840" y="1174680"/>
                <a:ext cx="149040" cy="7884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74840" y="1174680"/>
                <a:ext cx="149040" cy="7884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74840" y="1174680"/>
                <a:ext cx="149040" cy="7452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4840" y="1178640"/>
                <a:ext cx="149040" cy="7452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8520" y="1285200"/>
                <a:ext cx="159480" cy="6264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98520" y="1285200"/>
                <a:ext cx="159480" cy="6264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8520" y="1285200"/>
                <a:ext cx="162720" cy="4320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98520" y="1308600"/>
                <a:ext cx="162720" cy="3888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76840" y="1332360"/>
                <a:ext cx="145800" cy="7884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70440" y="1135080"/>
                <a:ext cx="72720" cy="1731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70440" y="1135080"/>
                <a:ext cx="72720" cy="1731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80880" y="1135080"/>
                <a:ext cx="62280" cy="1731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70440" y="1135080"/>
                <a:ext cx="59040" cy="16164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63160" y="1178640"/>
                <a:ext cx="107280" cy="10224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5920" y="921960"/>
                <a:ext cx="111240" cy="13392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5920" y="921960"/>
                <a:ext cx="111240" cy="13392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2680" y="92196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2680" y="92196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5920" y="7210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5920" y="7210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2680" y="72108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2680" y="72108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74840" y="59508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74840" y="59508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4840" y="595080"/>
                <a:ext cx="27720" cy="181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98960" y="595080"/>
                <a:ext cx="24480" cy="181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5040" y="59076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5040" y="59076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040" y="590760"/>
                <a:ext cx="27720" cy="181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520" y="590760"/>
                <a:ext cx="24120" cy="181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05320" y="1332360"/>
                <a:ext cx="232560" cy="4320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9080" y="772200"/>
                <a:ext cx="929520" cy="55980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9080" y="772200"/>
                <a:ext cx="926280" cy="55980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95720" y="772200"/>
                <a:ext cx="3240" cy="4100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2240" y="496440"/>
                <a:ext cx="55800" cy="47304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8040" y="496440"/>
                <a:ext cx="725040" cy="70560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8040" y="496440"/>
                <a:ext cx="725040" cy="70560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8040" y="496440"/>
                <a:ext cx="725040" cy="47304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4080" y="496440"/>
                <a:ext cx="728640" cy="70560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4080" y="969480"/>
                <a:ext cx="3600" cy="15768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9720" y="725040"/>
                <a:ext cx="444240" cy="51264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9720" y="725040"/>
                <a:ext cx="444240" cy="51264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5760" y="725040"/>
                <a:ext cx="447840" cy="46908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3400" y="1170720"/>
                <a:ext cx="409680" cy="6660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5760" y="1194480"/>
                <a:ext cx="24480" cy="36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79640" y="547560"/>
                <a:ext cx="153000" cy="18936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79640" y="547560"/>
                <a:ext cx="153000" cy="18936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79640" y="547560"/>
                <a:ext cx="153000" cy="18540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42600" y="547560"/>
              <a:ext cx="582840" cy="599040"/>
              <a:chOff x="642600" y="547560"/>
              <a:chExt cx="582840" cy="599040"/>
            </a:xfrm>
          </p:grpSpPr>
          <p:sp>
            <p:nvSpPr>
              <p:cNvPr id="246" name=""/>
              <p:cNvSpPr/>
              <p:nvPr/>
            </p:nvSpPr>
            <p:spPr>
              <a:xfrm>
                <a:off x="1155960" y="729000"/>
                <a:ext cx="55800" cy="79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9120" y="73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7280" y="72900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83600" y="72504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79640" y="547560"/>
                <a:ext cx="3600" cy="18144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14560" y="567000"/>
                <a:ext cx="86400" cy="118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14560" y="567000"/>
                <a:ext cx="360" cy="316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04480" y="606600"/>
                <a:ext cx="24120" cy="10224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38680" y="673560"/>
                <a:ext cx="34560" cy="356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5880" y="67752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21400" y="626400"/>
                <a:ext cx="7272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21400" y="626400"/>
                <a:ext cx="72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8160" y="641880"/>
                <a:ext cx="7920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18160" y="641880"/>
                <a:ext cx="79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14560" y="654120"/>
                <a:ext cx="8640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14560" y="654120"/>
                <a:ext cx="864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07720" y="673560"/>
                <a:ext cx="309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07720" y="673560"/>
                <a:ext cx="309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73240" y="673560"/>
                <a:ext cx="345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3240" y="673560"/>
                <a:ext cx="345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7720" y="693360"/>
                <a:ext cx="309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07720" y="689760"/>
                <a:ext cx="30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73240" y="689760"/>
                <a:ext cx="34560" cy="32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73240" y="689760"/>
                <a:ext cx="345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5440" y="602640"/>
                <a:ext cx="360" cy="79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35440" y="602640"/>
                <a:ext cx="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59560" y="5986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55960" y="598680"/>
                <a:ext cx="360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83680" y="5986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83680" y="5986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73240" y="610560"/>
                <a:ext cx="360" cy="234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73240" y="610560"/>
                <a:ext cx="3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5880" y="610560"/>
                <a:ext cx="360" cy="234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5880" y="610560"/>
                <a:ext cx="3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128600" y="62640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28600" y="626400"/>
                <a:ext cx="3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90880" y="630360"/>
                <a:ext cx="360" cy="115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87280" y="630360"/>
                <a:ext cx="36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2280" y="6418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42280" y="6418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3240" y="6418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73240" y="6418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28600" y="65808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28600" y="658080"/>
                <a:ext cx="288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87280" y="65808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87280" y="658080"/>
                <a:ext cx="3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18160" y="673560"/>
                <a:ext cx="360" cy="194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18160" y="673560"/>
                <a:ext cx="3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360" y="6735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97360" y="673560"/>
                <a:ext cx="3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31840" y="6933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131840" y="693360"/>
                <a:ext cx="3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90880" y="6933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87280" y="693360"/>
                <a:ext cx="3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6400" y="9536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76400" y="9536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9640" y="953640"/>
                <a:ext cx="145800" cy="1771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38680" y="1127160"/>
                <a:ext cx="83160" cy="19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6400" y="961560"/>
                <a:ext cx="65520" cy="17748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90080" y="97344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121400" y="981360"/>
                <a:ext cx="86400" cy="828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8160" y="981360"/>
                <a:ext cx="89640" cy="8280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28600" y="10562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28600" y="10562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97280" y="97344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97280" y="981360"/>
                <a:ext cx="83160" cy="828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97280" y="981360"/>
                <a:ext cx="83160" cy="8280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59560" y="105624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66400" y="107172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66400" y="107172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59560" y="105624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9440" y="54756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9440" y="54756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2680" y="547560"/>
                <a:ext cx="145800" cy="17748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9440" y="555480"/>
                <a:ext cx="145080" cy="181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320" y="583200"/>
                <a:ext cx="100080" cy="12996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0320" y="583200"/>
                <a:ext cx="100080" cy="12996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0320" y="58320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5760" y="641880"/>
                <a:ext cx="45000" cy="7128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720" y="68148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720" y="68148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6720" y="681480"/>
                <a:ext cx="34920" cy="154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6720" y="69336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0320" y="68580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2680" y="68580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2680" y="6897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0320" y="583200"/>
                <a:ext cx="110520" cy="12996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0320" y="583200"/>
                <a:ext cx="110520" cy="12996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7160" y="5832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0320" y="641880"/>
                <a:ext cx="51840" cy="7128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2600" y="957600"/>
                <a:ext cx="152280" cy="1890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2600" y="957600"/>
                <a:ext cx="152280" cy="1890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2600" y="957600"/>
                <a:ext cx="152280" cy="18540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8120" y="1139040"/>
                <a:ext cx="65520" cy="720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6280" y="1139040"/>
                <a:ext cx="51840" cy="39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6280" y="113904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42600" y="957600"/>
                <a:ext cx="13680" cy="18540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9880" y="98532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9880" y="98532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880" y="1004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9880" y="10047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9880" y="10047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9880" y="1008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9880" y="1008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9880" y="101304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63120" y="10130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3120" y="10130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6720" y="98928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7240" y="98532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7240" y="9853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000" y="9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4000" y="9853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0760" y="9853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076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076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9880" y="985320"/>
                <a:ext cx="20520" cy="1944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9880" y="10047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6640" y="981360"/>
                <a:ext cx="30960" cy="273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46640" y="981360"/>
                <a:ext cx="30960" cy="273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9880" y="981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4988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9880" y="981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9880" y="981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6640" y="9813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6640" y="981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6640" y="989280"/>
                <a:ext cx="24120" cy="1944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0760" y="100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4000" y="1008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74000" y="10047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4000" y="100080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3120" y="981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6720" y="993240"/>
                <a:ext cx="107280" cy="1220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6720" y="993240"/>
                <a:ext cx="107280" cy="1220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4000" y="993240"/>
                <a:ext cx="89640" cy="12204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6720" y="993240"/>
                <a:ext cx="75960" cy="11808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0760" y="1107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0760" y="1107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0760" y="1107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0760" y="1107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076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076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0760" y="1107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400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400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4000" y="11073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4000" y="11073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4000" y="11113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4000" y="111528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4000" y="111528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076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076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711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120" y="11156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12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112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112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3480" y="989280"/>
              <a:ext cx="104040" cy="12204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480" y="989280"/>
              <a:ext cx="104040" cy="12204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0240" y="989280"/>
              <a:ext cx="89640" cy="12600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200" y="989280"/>
              <a:ext cx="75960" cy="11808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240" y="111168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0240" y="111168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72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3480" y="111168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480" y="111168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348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348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240" y="11116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240" y="11116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24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024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024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024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0240" y="1119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0240" y="1119600"/>
              <a:ext cx="648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3480" y="111960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672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72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72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7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67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6720" y="11156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1640" y="1032840"/>
              <a:ext cx="34560" cy="273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1640" y="1032840"/>
              <a:ext cx="34560" cy="273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480" y="10328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8480" y="10328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640" y="103284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1640" y="104076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4880" y="1040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4880" y="1040760"/>
              <a:ext cx="24120" cy="1944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9360" y="1060200"/>
              <a:ext cx="7200" cy="39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2960" y="106020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560" y="10562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6560" y="10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2960" y="1052280"/>
              <a:ext cx="3240" cy="39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2440" y="1032840"/>
              <a:ext cx="24120" cy="1944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3480" y="1072080"/>
              <a:ext cx="38160" cy="352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3480" y="1072080"/>
              <a:ext cx="38160" cy="352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0680" y="1072080"/>
              <a:ext cx="2880" cy="39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6720" y="1072080"/>
              <a:ext cx="3600" cy="39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6720" y="107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" y="1076040"/>
              <a:ext cx="3240" cy="79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3480" y="1083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3480" y="1083960"/>
              <a:ext cx="31320" cy="234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1200" y="1107720"/>
              <a:ext cx="648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040" y="110340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8040" y="110340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040" y="1099440"/>
              <a:ext cx="3600" cy="39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040" y="10994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3920" y="1076040"/>
              <a:ext cx="27720" cy="2340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3920" y="10760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2960" y="1072080"/>
              <a:ext cx="37800" cy="39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2960" y="1072080"/>
              <a:ext cx="37800" cy="39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6560" y="1099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60" y="109944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" y="1099440"/>
              <a:ext cx="3240" cy="79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960" y="110772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656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560" y="1107720"/>
              <a:ext cx="6480" cy="3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3040" y="1107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3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040" y="1076040"/>
              <a:ext cx="27720" cy="3132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52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752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920" y="107208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3920" y="10720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0680" y="10720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0680" y="10720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68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6560" y="1072080"/>
              <a:ext cx="24120" cy="2736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560" y="10994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786800" y="228600"/>
            <a:ext cx="976320" cy="14479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489480" y="1752480"/>
            <a:ext cx="2377800" cy="35053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04800" y="2895480"/>
            <a:ext cx="24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ida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542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543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744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80880" y="1219320"/>
            <a:ext cx="7925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ciones de la Escuad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Cer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Marc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uadra de línea de tir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1039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1040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1241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380880" y="912960"/>
            <a:ext cx="7925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Cerrado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a es la formación normalmente usada cuando la escuadra marcha como parte del pelotón y la dispersión lateral y en profundidad, se hace posible sin sacrificar el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179960" y="4343400"/>
            <a:ext cx="1038240" cy="666720"/>
            <a:chOff x="4179960" y="4343400"/>
            <a:chExt cx="1038240" cy="666720"/>
          </a:xfrm>
        </p:grpSpPr>
        <p:sp>
          <p:nvSpPr>
            <p:cNvPr id="1535" name=""/>
            <p:cNvSpPr/>
            <p:nvPr/>
          </p:nvSpPr>
          <p:spPr>
            <a:xfrm>
              <a:off x="4179960" y="434340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 txBox="1"/>
            <p:nvPr/>
          </p:nvSpPr>
          <p:spPr>
            <a:xfrm>
              <a:off x="4550760" y="455004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103640" y="5638680"/>
            <a:ext cx="1101240" cy="609840"/>
            <a:chOff x="4103640" y="5638680"/>
            <a:chExt cx="1101240" cy="609840"/>
          </a:xfrm>
        </p:grpSpPr>
        <p:sp>
          <p:nvSpPr>
            <p:cNvPr id="1538" name=""/>
            <p:cNvSpPr/>
            <p:nvPr/>
          </p:nvSpPr>
          <p:spPr>
            <a:xfrm>
              <a:off x="4103640" y="5638680"/>
              <a:ext cx="110124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 txBox="1"/>
            <p:nvPr/>
          </p:nvSpPr>
          <p:spPr>
            <a:xfrm>
              <a:off x="4417920" y="58791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475240" y="5181480"/>
            <a:ext cx="1101240" cy="770040"/>
            <a:chOff x="5475240" y="5181480"/>
            <a:chExt cx="1101240" cy="770040"/>
          </a:xfrm>
        </p:grpSpPr>
        <p:sp>
          <p:nvSpPr>
            <p:cNvPr id="1541" name=""/>
            <p:cNvSpPr/>
            <p:nvPr/>
          </p:nvSpPr>
          <p:spPr>
            <a:xfrm>
              <a:off x="5475240" y="5181480"/>
              <a:ext cx="1101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 txBox="1"/>
            <p:nvPr/>
          </p:nvSpPr>
          <p:spPr>
            <a:xfrm>
              <a:off x="5711040" y="536184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2960640" y="5029200"/>
            <a:ext cx="1101240" cy="609480"/>
            <a:chOff x="2960640" y="5029200"/>
            <a:chExt cx="1101240" cy="609480"/>
          </a:xfrm>
        </p:grpSpPr>
        <p:sp>
          <p:nvSpPr>
            <p:cNvPr id="1544" name=""/>
            <p:cNvSpPr/>
            <p:nvPr/>
          </p:nvSpPr>
          <p:spPr>
            <a:xfrm>
              <a:off x="2960640" y="5029200"/>
              <a:ext cx="110124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 txBox="1"/>
            <p:nvPr/>
          </p:nvSpPr>
          <p:spPr>
            <a:xfrm>
              <a:off x="3196440" y="520956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2170080" y="4268880"/>
            <a:ext cx="942840" cy="769680"/>
            <a:chOff x="2170080" y="4268880"/>
            <a:chExt cx="942840" cy="769680"/>
          </a:xfrm>
        </p:grpSpPr>
        <p:sp>
          <p:nvSpPr>
            <p:cNvPr id="1547" name=""/>
            <p:cNvSpPr/>
            <p:nvPr/>
          </p:nvSpPr>
          <p:spPr>
            <a:xfrm>
              <a:off x="2170080" y="4268880"/>
              <a:ext cx="94284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 txBox="1"/>
            <p:nvPr/>
          </p:nvSpPr>
          <p:spPr>
            <a:xfrm>
              <a:off x="2372040" y="450936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4179960" y="3124080"/>
            <a:ext cx="990360" cy="609840"/>
            <a:chOff x="4179960" y="3124080"/>
            <a:chExt cx="990360" cy="609840"/>
          </a:xfrm>
        </p:grpSpPr>
        <p:sp>
          <p:nvSpPr>
            <p:cNvPr id="1550" name=""/>
            <p:cNvSpPr/>
            <p:nvPr/>
          </p:nvSpPr>
          <p:spPr>
            <a:xfrm>
              <a:off x="4179960" y="3124080"/>
              <a:ext cx="99036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4462560" y="33649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036960" y="3649680"/>
            <a:ext cx="990360" cy="770040"/>
            <a:chOff x="3036960" y="3649680"/>
            <a:chExt cx="990360" cy="770040"/>
          </a:xfrm>
        </p:grpSpPr>
        <p:sp>
          <p:nvSpPr>
            <p:cNvPr id="1553" name=""/>
            <p:cNvSpPr/>
            <p:nvPr/>
          </p:nvSpPr>
          <p:spPr>
            <a:xfrm>
              <a:off x="3036960" y="3649680"/>
              <a:ext cx="99036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3249000" y="383004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5398920" y="3733920"/>
            <a:ext cx="990720" cy="609480"/>
            <a:chOff x="5398920" y="3733920"/>
            <a:chExt cx="990720" cy="609480"/>
          </a:xfrm>
        </p:grpSpPr>
        <p:sp>
          <p:nvSpPr>
            <p:cNvPr id="1556" name=""/>
            <p:cNvSpPr/>
            <p:nvPr/>
          </p:nvSpPr>
          <p:spPr>
            <a:xfrm>
              <a:off x="5398920" y="3733920"/>
              <a:ext cx="99072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5610960" y="391428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389640" y="4335480"/>
            <a:ext cx="849240" cy="770040"/>
            <a:chOff x="6389640" y="4335480"/>
            <a:chExt cx="849240" cy="770040"/>
          </a:xfrm>
        </p:grpSpPr>
        <p:sp>
          <p:nvSpPr>
            <p:cNvPr id="1559" name=""/>
            <p:cNvSpPr/>
            <p:nvPr/>
          </p:nvSpPr>
          <p:spPr>
            <a:xfrm>
              <a:off x="6389640" y="4335480"/>
              <a:ext cx="849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6571440" y="457632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1563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1564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1765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6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380880" y="914400"/>
            <a:ext cx="792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Marcha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a formación, da máxima velocidad y control, es frecuentemente usada en la marcha de aproximación a lo largo de la carre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1143000" y="3352680"/>
            <a:ext cx="7162920" cy="2209680"/>
            <a:chOff x="1143000" y="3352680"/>
            <a:chExt cx="7162920" cy="2209680"/>
          </a:xfrm>
        </p:grpSpPr>
        <p:sp>
          <p:nvSpPr>
            <p:cNvPr id="2059" name=""/>
            <p:cNvSpPr/>
            <p:nvPr/>
          </p:nvSpPr>
          <p:spPr>
            <a:xfrm>
              <a:off x="1143000" y="3352680"/>
              <a:ext cx="7162920" cy="2209680"/>
            </a:xfrm>
            <a:custGeom>
              <a:avLst/>
              <a:gdLst/>
              <a:ahLst/>
              <a:rect l="l" t="t" r="r" b="b"/>
              <a:pathLst>
                <a:path w="3696" h="1392">
                  <a:moveTo>
                    <a:pt x="0" y="0"/>
                  </a:moveTo>
                  <a:cubicBezTo>
                    <a:pt x="180" y="316"/>
                    <a:pt x="360" y="632"/>
                    <a:pt x="720" y="720"/>
                  </a:cubicBezTo>
                  <a:cubicBezTo>
                    <a:pt x="1080" y="808"/>
                    <a:pt x="1664" y="416"/>
                    <a:pt x="2160" y="528"/>
                  </a:cubicBezTo>
                  <a:cubicBezTo>
                    <a:pt x="2656" y="640"/>
                    <a:pt x="3440" y="1248"/>
                    <a:pt x="3696" y="1392"/>
                  </a:cubicBezTo>
                </a:path>
              </a:pathLst>
            </a:custGeom>
            <a:noFill/>
            <a:ln w="2079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43000" y="3352680"/>
              <a:ext cx="7162920" cy="2209680"/>
            </a:xfrm>
            <a:custGeom>
              <a:avLst/>
              <a:gdLst/>
              <a:ahLst/>
              <a:rect l="l" t="t" r="r" b="b"/>
              <a:pathLst>
                <a:path w="3696" h="1392">
                  <a:moveTo>
                    <a:pt x="0" y="0"/>
                  </a:moveTo>
                  <a:cubicBezTo>
                    <a:pt x="180" y="316"/>
                    <a:pt x="360" y="632"/>
                    <a:pt x="720" y="720"/>
                  </a:cubicBezTo>
                  <a:cubicBezTo>
                    <a:pt x="1080" y="808"/>
                    <a:pt x="1664" y="416"/>
                    <a:pt x="2160" y="528"/>
                  </a:cubicBezTo>
                  <a:cubicBezTo>
                    <a:pt x="2656" y="640"/>
                    <a:pt x="3440" y="1248"/>
                    <a:pt x="3696" y="139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4038480" y="3905280"/>
            <a:ext cx="1038240" cy="666720"/>
            <a:chOff x="4038480" y="3905280"/>
            <a:chExt cx="1038240" cy="666720"/>
          </a:xfrm>
        </p:grpSpPr>
        <p:sp>
          <p:nvSpPr>
            <p:cNvPr id="2062" name=""/>
            <p:cNvSpPr/>
            <p:nvPr/>
          </p:nvSpPr>
          <p:spPr>
            <a:xfrm>
              <a:off x="4038480" y="390528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 txBox="1"/>
            <p:nvPr/>
          </p:nvSpPr>
          <p:spPr>
            <a:xfrm>
              <a:off x="4409280" y="411192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2666880" y="4952880"/>
            <a:ext cx="1101600" cy="609840"/>
            <a:chOff x="2666880" y="4952880"/>
            <a:chExt cx="1101600" cy="609840"/>
          </a:xfrm>
        </p:grpSpPr>
        <p:sp>
          <p:nvSpPr>
            <p:cNvPr id="2065" name=""/>
            <p:cNvSpPr/>
            <p:nvPr/>
          </p:nvSpPr>
          <p:spPr>
            <a:xfrm>
              <a:off x="2666880" y="4952880"/>
              <a:ext cx="110160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 txBox="1"/>
            <p:nvPr/>
          </p:nvSpPr>
          <p:spPr>
            <a:xfrm>
              <a:off x="2981160" y="51933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685800" y="4343400"/>
            <a:ext cx="1101240" cy="770040"/>
            <a:chOff x="685800" y="4343400"/>
            <a:chExt cx="1101240" cy="770040"/>
          </a:xfrm>
        </p:grpSpPr>
        <p:sp>
          <p:nvSpPr>
            <p:cNvPr id="2068" name=""/>
            <p:cNvSpPr/>
            <p:nvPr/>
          </p:nvSpPr>
          <p:spPr>
            <a:xfrm>
              <a:off x="685800" y="4343400"/>
              <a:ext cx="1101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 txBox="1"/>
            <p:nvPr/>
          </p:nvSpPr>
          <p:spPr>
            <a:xfrm>
              <a:off x="921600" y="452376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029200" y="4952880"/>
            <a:ext cx="1101240" cy="609840"/>
            <a:chOff x="5029200" y="4952880"/>
            <a:chExt cx="1101240" cy="609840"/>
          </a:xfrm>
        </p:grpSpPr>
        <p:sp>
          <p:nvSpPr>
            <p:cNvPr id="2071" name=""/>
            <p:cNvSpPr/>
            <p:nvPr/>
          </p:nvSpPr>
          <p:spPr>
            <a:xfrm>
              <a:off x="5029200" y="4952880"/>
              <a:ext cx="110124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 txBox="1"/>
            <p:nvPr/>
          </p:nvSpPr>
          <p:spPr>
            <a:xfrm>
              <a:off x="5265000" y="513360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6829560" y="5478480"/>
            <a:ext cx="942840" cy="770040"/>
            <a:chOff x="6829560" y="5478480"/>
            <a:chExt cx="942840" cy="770040"/>
          </a:xfrm>
        </p:grpSpPr>
        <p:sp>
          <p:nvSpPr>
            <p:cNvPr id="2074" name=""/>
            <p:cNvSpPr/>
            <p:nvPr/>
          </p:nvSpPr>
          <p:spPr>
            <a:xfrm>
              <a:off x="6829560" y="5478480"/>
              <a:ext cx="9428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 txBox="1"/>
            <p:nvPr/>
          </p:nvSpPr>
          <p:spPr>
            <a:xfrm>
              <a:off x="7031520" y="571932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867280" y="2895480"/>
            <a:ext cx="990720" cy="609840"/>
            <a:chOff x="5867280" y="2895480"/>
            <a:chExt cx="990720" cy="609840"/>
          </a:xfrm>
        </p:grpSpPr>
        <p:sp>
          <p:nvSpPr>
            <p:cNvPr id="2077" name=""/>
            <p:cNvSpPr/>
            <p:nvPr/>
          </p:nvSpPr>
          <p:spPr>
            <a:xfrm>
              <a:off x="5867280" y="28954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6149880" y="31363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7467480" y="3733920"/>
            <a:ext cx="990720" cy="769680"/>
            <a:chOff x="7467480" y="3733920"/>
            <a:chExt cx="990720" cy="769680"/>
          </a:xfrm>
        </p:grpSpPr>
        <p:sp>
          <p:nvSpPr>
            <p:cNvPr id="2080" name=""/>
            <p:cNvSpPr/>
            <p:nvPr/>
          </p:nvSpPr>
          <p:spPr>
            <a:xfrm>
              <a:off x="7467480" y="3733920"/>
              <a:ext cx="99072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7679520" y="391428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3657600" y="2895480"/>
            <a:ext cx="990720" cy="609840"/>
            <a:chOff x="3657600" y="2895480"/>
            <a:chExt cx="990720" cy="609840"/>
          </a:xfrm>
        </p:grpSpPr>
        <p:sp>
          <p:nvSpPr>
            <p:cNvPr id="2083" name=""/>
            <p:cNvSpPr/>
            <p:nvPr/>
          </p:nvSpPr>
          <p:spPr>
            <a:xfrm>
              <a:off x="3657600" y="28954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 txBox="1"/>
            <p:nvPr/>
          </p:nvSpPr>
          <p:spPr>
            <a:xfrm>
              <a:off x="3869640" y="307620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1905120" y="2819520"/>
            <a:ext cx="849240" cy="769680"/>
            <a:chOff x="1905120" y="2819520"/>
            <a:chExt cx="849240" cy="769680"/>
          </a:xfrm>
        </p:grpSpPr>
        <p:sp>
          <p:nvSpPr>
            <p:cNvPr id="2086" name=""/>
            <p:cNvSpPr/>
            <p:nvPr/>
          </p:nvSpPr>
          <p:spPr>
            <a:xfrm>
              <a:off x="1905120" y="2819520"/>
              <a:ext cx="84924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 txBox="1"/>
            <p:nvPr/>
          </p:nvSpPr>
          <p:spPr>
            <a:xfrm>
              <a:off x="2086920" y="306000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2090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2091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2292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3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2584" name=""/>
          <p:cNvSpPr/>
          <p:nvPr/>
        </p:nvSpPr>
        <p:spPr>
          <a:xfrm>
            <a:off x="380880" y="990720"/>
            <a:ext cx="792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Abierto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e adapta a las situaciones en que se requiere prontitud de acción y no se conoce con certeza la ubicación y efectivos del enem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4143240" y="4343400"/>
            <a:ext cx="1038240" cy="666720"/>
            <a:chOff x="4143240" y="4343400"/>
            <a:chExt cx="1038240" cy="666720"/>
          </a:xfrm>
        </p:grpSpPr>
        <p:sp>
          <p:nvSpPr>
            <p:cNvPr id="2586" name=""/>
            <p:cNvSpPr/>
            <p:nvPr/>
          </p:nvSpPr>
          <p:spPr>
            <a:xfrm>
              <a:off x="4143240" y="434340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 txBox="1"/>
            <p:nvPr/>
          </p:nvSpPr>
          <p:spPr>
            <a:xfrm>
              <a:off x="4514040" y="455004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097160" y="5867280"/>
            <a:ext cx="1101600" cy="609840"/>
            <a:chOff x="4097160" y="5867280"/>
            <a:chExt cx="1101600" cy="609840"/>
          </a:xfrm>
        </p:grpSpPr>
        <p:sp>
          <p:nvSpPr>
            <p:cNvPr id="2589" name=""/>
            <p:cNvSpPr/>
            <p:nvPr/>
          </p:nvSpPr>
          <p:spPr>
            <a:xfrm>
              <a:off x="4097160" y="5867280"/>
              <a:ext cx="110160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 txBox="1"/>
            <p:nvPr/>
          </p:nvSpPr>
          <p:spPr>
            <a:xfrm>
              <a:off x="4411440" y="61077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6332400" y="5411880"/>
            <a:ext cx="1101600" cy="769680"/>
            <a:chOff x="6332400" y="5411880"/>
            <a:chExt cx="1101600" cy="769680"/>
          </a:xfrm>
        </p:grpSpPr>
        <p:sp>
          <p:nvSpPr>
            <p:cNvPr id="2592" name=""/>
            <p:cNvSpPr/>
            <p:nvPr/>
          </p:nvSpPr>
          <p:spPr>
            <a:xfrm>
              <a:off x="6332400" y="5411880"/>
              <a:ext cx="110160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6568200" y="559224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1828800" y="5334120"/>
            <a:ext cx="1101240" cy="609480"/>
            <a:chOff x="1828800" y="5334120"/>
            <a:chExt cx="1101240" cy="609480"/>
          </a:xfrm>
        </p:grpSpPr>
        <p:sp>
          <p:nvSpPr>
            <p:cNvPr id="2595" name=""/>
            <p:cNvSpPr/>
            <p:nvPr/>
          </p:nvSpPr>
          <p:spPr>
            <a:xfrm>
              <a:off x="1828800" y="5334120"/>
              <a:ext cx="110124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 txBox="1"/>
            <p:nvPr/>
          </p:nvSpPr>
          <p:spPr>
            <a:xfrm>
              <a:off x="2064600" y="551448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533520" y="3963960"/>
            <a:ext cx="942840" cy="770040"/>
            <a:chOff x="533520" y="3963960"/>
            <a:chExt cx="942840" cy="770040"/>
          </a:xfrm>
        </p:grpSpPr>
        <p:sp>
          <p:nvSpPr>
            <p:cNvPr id="2598" name=""/>
            <p:cNvSpPr/>
            <p:nvPr/>
          </p:nvSpPr>
          <p:spPr>
            <a:xfrm>
              <a:off x="533520" y="3963960"/>
              <a:ext cx="9428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 txBox="1"/>
            <p:nvPr/>
          </p:nvSpPr>
          <p:spPr>
            <a:xfrm>
              <a:off x="735480" y="420480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038480" y="2666880"/>
            <a:ext cx="990720" cy="609840"/>
            <a:chOff x="4038480" y="2666880"/>
            <a:chExt cx="990720" cy="609840"/>
          </a:xfrm>
        </p:grpSpPr>
        <p:sp>
          <p:nvSpPr>
            <p:cNvPr id="2601" name=""/>
            <p:cNvSpPr/>
            <p:nvPr/>
          </p:nvSpPr>
          <p:spPr>
            <a:xfrm>
              <a:off x="4038480" y="26668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1973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400"/>
                  </a:lnTo>
                  <a:lnTo>
                    <a:pt x="16531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4d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 txBox="1"/>
            <p:nvPr/>
          </p:nvSpPr>
          <p:spPr>
            <a:xfrm>
              <a:off x="4321080" y="29077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1905120" y="3048120"/>
            <a:ext cx="990360" cy="769680"/>
            <a:chOff x="1905120" y="3048120"/>
            <a:chExt cx="990360" cy="769680"/>
          </a:xfrm>
        </p:grpSpPr>
        <p:sp>
          <p:nvSpPr>
            <p:cNvPr id="2604" name=""/>
            <p:cNvSpPr/>
            <p:nvPr/>
          </p:nvSpPr>
          <p:spPr>
            <a:xfrm>
              <a:off x="1905120" y="3048120"/>
              <a:ext cx="99036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 txBox="1"/>
            <p:nvPr/>
          </p:nvSpPr>
          <p:spPr>
            <a:xfrm>
              <a:off x="2117160" y="322848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6095880" y="3200400"/>
            <a:ext cx="990720" cy="609480"/>
            <a:chOff x="6095880" y="3200400"/>
            <a:chExt cx="990720" cy="609480"/>
          </a:xfrm>
        </p:grpSpPr>
        <p:sp>
          <p:nvSpPr>
            <p:cNvPr id="2607" name=""/>
            <p:cNvSpPr/>
            <p:nvPr/>
          </p:nvSpPr>
          <p:spPr>
            <a:xfrm>
              <a:off x="6095880" y="3200400"/>
              <a:ext cx="99072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 txBox="1"/>
            <p:nvPr/>
          </p:nvSpPr>
          <p:spPr>
            <a:xfrm>
              <a:off x="6307920" y="338076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7837560" y="4192560"/>
            <a:ext cx="849240" cy="770040"/>
            <a:chOff x="7837560" y="4192560"/>
            <a:chExt cx="849240" cy="770040"/>
          </a:xfrm>
        </p:grpSpPr>
        <p:sp>
          <p:nvSpPr>
            <p:cNvPr id="2610" name=""/>
            <p:cNvSpPr/>
            <p:nvPr/>
          </p:nvSpPr>
          <p:spPr>
            <a:xfrm>
              <a:off x="7837560" y="4192560"/>
              <a:ext cx="849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 txBox="1"/>
            <p:nvPr/>
          </p:nvSpPr>
          <p:spPr>
            <a:xfrm>
              <a:off x="8019360" y="443340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á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áct"/>
                <a:ea typeface="Imá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2614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2615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2816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6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7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>
            <a:off x="380880" y="12193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uadra de línea de tirador: Esta la formación básica de la escuadra para el asal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231920" y="4276800"/>
            <a:ext cx="930240" cy="1339560"/>
            <a:chOff x="1231920" y="4276800"/>
            <a:chExt cx="930240" cy="1339560"/>
          </a:xfrm>
        </p:grpSpPr>
        <p:sp>
          <p:nvSpPr>
            <p:cNvPr id="3110" name=""/>
            <p:cNvSpPr/>
            <p:nvPr/>
          </p:nvSpPr>
          <p:spPr>
            <a:xfrm>
              <a:off x="1231920" y="4276800"/>
              <a:ext cx="930240" cy="133956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 txBox="1"/>
            <p:nvPr/>
          </p:nvSpPr>
          <p:spPr>
            <a:xfrm>
              <a:off x="1564200" y="4692240"/>
              <a:ext cx="215640" cy="38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6786720" y="4305240"/>
            <a:ext cx="985320" cy="1223640"/>
            <a:chOff x="6786720" y="4305240"/>
            <a:chExt cx="985320" cy="1223640"/>
          </a:xfrm>
        </p:grpSpPr>
        <p:sp>
          <p:nvSpPr>
            <p:cNvPr id="3113" name=""/>
            <p:cNvSpPr/>
            <p:nvPr/>
          </p:nvSpPr>
          <p:spPr>
            <a:xfrm>
              <a:off x="6786720" y="4305240"/>
              <a:ext cx="98532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 txBox="1"/>
            <p:nvPr/>
          </p:nvSpPr>
          <p:spPr>
            <a:xfrm>
              <a:off x="7067880" y="4788000"/>
              <a:ext cx="352080" cy="44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6024600" y="3700440"/>
            <a:ext cx="985680" cy="1547640"/>
            <a:chOff x="6024600" y="3700440"/>
            <a:chExt cx="985680" cy="1547640"/>
          </a:xfrm>
        </p:grpSpPr>
        <p:sp>
          <p:nvSpPr>
            <p:cNvPr id="3116" name=""/>
            <p:cNvSpPr/>
            <p:nvPr/>
          </p:nvSpPr>
          <p:spPr>
            <a:xfrm>
              <a:off x="6024600" y="3700440"/>
              <a:ext cx="98568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 txBox="1"/>
            <p:nvPr/>
          </p:nvSpPr>
          <p:spPr>
            <a:xfrm>
              <a:off x="6235560" y="4063320"/>
              <a:ext cx="281520" cy="44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7763040" y="4027320"/>
            <a:ext cx="1075680" cy="1447560"/>
            <a:chOff x="7763040" y="4027320"/>
            <a:chExt cx="1075680" cy="1447560"/>
          </a:xfrm>
        </p:grpSpPr>
        <p:sp>
          <p:nvSpPr>
            <p:cNvPr id="3119" name=""/>
            <p:cNvSpPr/>
            <p:nvPr/>
          </p:nvSpPr>
          <p:spPr>
            <a:xfrm>
              <a:off x="7763040" y="4027320"/>
              <a:ext cx="1075680" cy="144756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 txBox="1"/>
            <p:nvPr/>
          </p:nvSpPr>
          <p:spPr>
            <a:xfrm>
              <a:off x="7993440" y="4456080"/>
              <a:ext cx="53748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482760" y="3862440"/>
            <a:ext cx="844560" cy="1547280"/>
            <a:chOff x="482760" y="3862440"/>
            <a:chExt cx="844560" cy="1547280"/>
          </a:xfrm>
        </p:grpSpPr>
        <p:sp>
          <p:nvSpPr>
            <p:cNvPr id="3122" name=""/>
            <p:cNvSpPr/>
            <p:nvPr/>
          </p:nvSpPr>
          <p:spPr>
            <a:xfrm>
              <a:off x="482760" y="3862440"/>
              <a:ext cx="844560" cy="15472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 txBox="1"/>
            <p:nvPr/>
          </p:nvSpPr>
          <p:spPr>
            <a:xfrm>
              <a:off x="663480" y="4346280"/>
              <a:ext cx="1807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143160" y="4305240"/>
            <a:ext cx="887400" cy="1223640"/>
            <a:chOff x="3143160" y="4305240"/>
            <a:chExt cx="887400" cy="1223640"/>
          </a:xfrm>
        </p:grpSpPr>
        <p:sp>
          <p:nvSpPr>
            <p:cNvPr id="3125" name=""/>
            <p:cNvSpPr/>
            <p:nvPr/>
          </p:nvSpPr>
          <p:spPr>
            <a:xfrm>
              <a:off x="3143160" y="4305240"/>
              <a:ext cx="88740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 txBox="1"/>
            <p:nvPr/>
          </p:nvSpPr>
          <p:spPr>
            <a:xfrm>
              <a:off x="3396240" y="4788720"/>
              <a:ext cx="317160" cy="44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2305080" y="3852720"/>
            <a:ext cx="887400" cy="1547640"/>
            <a:chOff x="2305080" y="3852720"/>
            <a:chExt cx="887400" cy="1547640"/>
          </a:xfrm>
        </p:grpSpPr>
        <p:sp>
          <p:nvSpPr>
            <p:cNvPr id="3128" name=""/>
            <p:cNvSpPr/>
            <p:nvPr/>
          </p:nvSpPr>
          <p:spPr>
            <a:xfrm>
              <a:off x="2305080" y="3852720"/>
              <a:ext cx="88740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 txBox="1"/>
            <p:nvPr/>
          </p:nvSpPr>
          <p:spPr>
            <a:xfrm>
              <a:off x="2495160" y="4215600"/>
              <a:ext cx="253440" cy="44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4133880" y="3924360"/>
            <a:ext cx="887400" cy="1223640"/>
            <a:chOff x="4133880" y="3924360"/>
            <a:chExt cx="887400" cy="1223640"/>
          </a:xfrm>
        </p:grpSpPr>
        <p:sp>
          <p:nvSpPr>
            <p:cNvPr id="3131" name=""/>
            <p:cNvSpPr/>
            <p:nvPr/>
          </p:nvSpPr>
          <p:spPr>
            <a:xfrm>
              <a:off x="4133880" y="3924360"/>
              <a:ext cx="88740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 txBox="1"/>
            <p:nvPr/>
          </p:nvSpPr>
          <p:spPr>
            <a:xfrm>
              <a:off x="4323960" y="4286880"/>
              <a:ext cx="443520" cy="48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3" name=""/>
          <p:cNvGrpSpPr/>
          <p:nvPr/>
        </p:nvGrpSpPr>
        <p:grpSpPr>
          <a:xfrm>
            <a:off x="5219640" y="4089240"/>
            <a:ext cx="760320" cy="1547640"/>
            <a:chOff x="5219640" y="4089240"/>
            <a:chExt cx="760320" cy="1547640"/>
          </a:xfrm>
        </p:grpSpPr>
        <p:sp>
          <p:nvSpPr>
            <p:cNvPr id="3134" name=""/>
            <p:cNvSpPr/>
            <p:nvPr/>
          </p:nvSpPr>
          <p:spPr>
            <a:xfrm>
              <a:off x="5219640" y="4089240"/>
              <a:ext cx="76032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 txBox="1"/>
            <p:nvPr/>
          </p:nvSpPr>
          <p:spPr>
            <a:xfrm>
              <a:off x="5382360" y="4573080"/>
              <a:ext cx="162720" cy="36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3:20:42Z</dcterms:created>
  <dc:creator>Tte. (Ej.) Ángel Balestrini J.</dc:creator>
  <dc:description/>
  <dc:language>en-US</dc:language>
  <cp:lastModifiedBy>personal</cp:lastModifiedBy>
  <dcterms:modified xsi:type="dcterms:W3CDTF">2007-11-05T00:46:18Z</dcterms:modified>
  <cp:revision>211</cp:revision>
  <dc:subject/>
  <dc:title>Unidad 2 de Táctica de Escuadra</dc:title>
</cp:coreProperties>
</file>